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38E-EE63-4CA4-B3C7-20944B73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ED8-DF03-4872-8DB5-EE3344DF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7D1-F42E-45EF-94B1-A554020F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3D7-0653-4AC5-A435-6638EC81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1465-FEA8-43C8-9C5C-518EF381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3DBE-77A5-4E15-A830-3736FEEC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91BB-0972-40A6-BE04-D1204F7D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B802-880A-49F5-A32B-DFAF4750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8554-A5AF-43E8-9B09-90A9FE9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C172-6B0A-4295-830E-F75BBA55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F194-79D9-40B9-A5B9-C6A1C810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ACF-3369-45F7-A5FD-C3595688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2E4E-30D1-4850-99CE-7DE4010F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A83D-B1F7-4088-89CD-6D21DC28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D18B-BCF8-44D1-9143-288E3B16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C921-CF24-4BA9-A5C6-C2A5E5D7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5B02-D479-414B-B4C2-CF3B1E3E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65E-F1E3-4283-ADDF-83A94B4F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308-8395-48F6-ABCC-8BF594E4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5FC-F3EE-46DF-B4F8-6B7B5D15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EF5-CF97-4AE1-9B99-A2F22ACD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E7E-E03F-4B7A-93A7-2F1C06C5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A54-0F8D-475D-A420-822DCDAA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032-2F18-414E-A6BB-13ABD9F1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10/7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Triag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0BAC-FB35-441C-A49F-B9426B5459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10/7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Triag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7686-650D-4F9E-AD67-F7B7AEFE27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77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RIAGE SP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3611"/>
                </a:solidFill>
                <a:latin typeface="Perpetua"/>
              </a:rPr>
              <a:t>Becky Halcik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3611"/>
                </a:solidFill>
                <a:latin typeface="Perpetua"/>
              </a:rPr>
              <a:t>Kapil Raj Nair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3611"/>
                </a:solidFill>
                <a:latin typeface="Perpetua"/>
              </a:rPr>
              <a:t>Brandon Thomps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558-B294-4048-9AA1-257364BAF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PROBLEM DEFINI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triage space is not functionally designed to efficiently meet the needs of acuity adaptability, patient volume, clinician responsibility, and maintain regulatory requirement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96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2F69-C6E5-4C97-AD99-00A7D34C9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 CONSIDERATION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ze of 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eeded Equip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atient Volum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amily Accommod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PAA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kill level of “triager”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Adaptability of layou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ound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03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CAEE-5A4B-4471-B084-9A58A27114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IC CONCEP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08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rot="16200000">
            <a:off x="-190080" y="3543480"/>
            <a:ext cx="1752480" cy="7617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057400"/>
            <a:ext cx="1905120" cy="16765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419720"/>
            <a:ext cx="2362320" cy="1600200"/>
          </a:xfrm>
          <a:prstGeom prst="octagon">
            <a:avLst>
              <a:gd name="adj" fmla="val 292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1905120"/>
            <a:ext cx="2102040" cy="1955520"/>
          </a:xfrm>
          <a:prstGeom prst="plus">
            <a:avLst>
              <a:gd name="adj" fmla="val 25000"/>
            </a:avLst>
          </a:prstGeom>
          <a:solidFill>
            <a:srgbClr val="cc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rot="10800000">
            <a:off x="1143000" y="4723920"/>
            <a:ext cx="2666880" cy="76212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a9a9">
              <a:alpha val="7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590920"/>
            <a:ext cx="1295640" cy="533160"/>
          </a:xfrm>
          <a:prstGeom prst="rightArrow">
            <a:avLst>
              <a:gd name="adj1" fmla="val 50000"/>
              <a:gd name="adj2" fmla="val 60753"/>
            </a:avLst>
          </a:prstGeom>
          <a:solidFill>
            <a:srgbClr val="96a9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438280"/>
            <a:ext cx="1905120" cy="533520"/>
          </a:xfrm>
          <a:prstGeom prst="rightArrow">
            <a:avLst>
              <a:gd name="adj1" fmla="val 50000"/>
              <a:gd name="adj2" fmla="val 89271"/>
            </a:avLst>
          </a:prstGeom>
          <a:solidFill>
            <a:srgbClr val="96a9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495680" y="3200040"/>
            <a:ext cx="1143000" cy="9907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a9a9">
              <a:alpha val="7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6200000">
            <a:off x="6819480" y="4000320"/>
            <a:ext cx="1295280" cy="1523880"/>
          </a:xfrm>
          <a:custGeom>
            <a:avLst/>
            <a:gdLst>
              <a:gd name="textAreaLeft" fmla="*/ 0 w 1295280"/>
              <a:gd name="textAreaRight" fmla="*/ 1295640 w 1295280"/>
              <a:gd name="textAreaTop" fmla="*/ -360 h 1523880"/>
              <a:gd name="textAreaBottom" fmla="*/ 15238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a9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F87D-156E-43BE-89FC-951F698E72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AYOU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23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Triage Area"/>
          <p:cNvPicPr/>
          <p:nvPr/>
        </p:nvPicPr>
        <p:blipFill>
          <a:blip r:embed="rId2"/>
          <a:stretch/>
        </p:blipFill>
        <p:spPr>
          <a:xfrm>
            <a:off x="685800" y="152388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57800" y="1552680"/>
            <a:ext cx="3276720" cy="2373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3352680" cy="222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14400" y="3733920"/>
            <a:ext cx="2590920" cy="23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F635-3123-4A50-9C4A-D340874A21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AYOU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32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00600" y="3340080"/>
            <a:ext cx="3533760" cy="3014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3733920" cy="361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7853-2AC2-4014-B343-1B630A6E2D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ETR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st to Square Fe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ime needed for different acuity leve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Percent Usage of Spa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riage Space /ED Spa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reet to triage tim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riage to room tim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mparing procedure adaptabilit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Materials Need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41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1654-1E85-4C0A-8097-BA914DE755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XT STE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46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2280" y="1600200"/>
            <a:ext cx="3429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9b2d1f"/>
                </a:solidFill>
                <a:latin typeface="Arial"/>
              </a:rPr>
              <a:t>Problem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d34817"/>
                </a:solidFill>
                <a:latin typeface="Arial"/>
              </a:rPr>
              <a:t>Project For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96a9a9"/>
                </a:solidFill>
                <a:latin typeface="Arial"/>
              </a:rPr>
              <a:t>Project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51af6e"/>
                </a:solidFill>
                <a:latin typeface="Arial"/>
              </a:rPr>
              <a:t>Project Refinement</a:t>
            </a:r>
            <a:r>
              <a:rPr b="1" lang="en-US" sz="1600" spc="-1" strike="noStrike">
                <a:solidFill>
                  <a:srgbClr val="51af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470480" y="2955960"/>
            <a:ext cx="1792080" cy="868320"/>
          </a:xfrm>
          <a:prstGeom prst="line">
            <a:avLst/>
          </a:prstGeom>
          <a:ln w="7632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603520" y="3860280"/>
            <a:ext cx="1792440" cy="868680"/>
          </a:xfrm>
          <a:prstGeom prst="line">
            <a:avLst/>
          </a:prstGeom>
          <a:ln w="7632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4749840"/>
            <a:ext cx="1792080" cy="868320"/>
          </a:xfrm>
          <a:prstGeom prst="line">
            <a:avLst/>
          </a:prstGeom>
          <a:ln w="7632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324480" y="2057400"/>
            <a:ext cx="1792440" cy="868320"/>
          </a:xfrm>
          <a:prstGeom prst="line">
            <a:avLst/>
          </a:prstGeom>
          <a:ln w="76320">
            <a:solidFill>
              <a:srgbClr val="51af6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021400">
            <a:off x="549720" y="4723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d1f"/>
                </a:solidFill>
                <a:latin typeface="Arial"/>
              </a:rPr>
              <a:t>Research &amp;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021400">
            <a:off x="2519640" y="3803400"/>
            <a:ext cx="15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34817"/>
                </a:solidFill>
                <a:latin typeface="Arial"/>
              </a:rPr>
              <a:t>Concept Design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02080" y="5462640"/>
            <a:ext cx="2985840" cy="266760"/>
          </a:xfr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ency Room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02080" y="5146560"/>
            <a:ext cx="3062160" cy="266760"/>
          </a:xfr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views – Triage Clinic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5734080"/>
            <a:ext cx="3011400" cy="266760"/>
          </a:xfr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/ Articl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021400">
            <a:off x="4318200" y="30729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a9a9"/>
                </a:solidFill>
                <a:latin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343400"/>
            <a:ext cx="3071880" cy="266760"/>
          </a:xfr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ing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43560" y="4700520"/>
            <a:ext cx="3035160" cy="266760"/>
          </a:xfr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pt Sketches / Mock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75360" y="3227400"/>
            <a:ext cx="3602160" cy="266760"/>
          </a:xfr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8600" y="3803760"/>
            <a:ext cx="3327480" cy="266760"/>
          </a:xfr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021400">
            <a:off x="6172560" y="22478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a9a9"/>
                </a:solidFill>
                <a:latin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3506760"/>
            <a:ext cx="3443400" cy="266760"/>
          </a:xfr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99240" y="2463840"/>
            <a:ext cx="154476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2743200"/>
            <a:ext cx="154764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Close-up of a sign in a doctor’s office for the triage area. photo"/>
          <p:cNvPicPr/>
          <p:nvPr/>
        </p:nvPicPr>
        <p:blipFill>
          <a:blip r:embed="rId2"/>
          <a:srcRect l="20004" t="28957" r="3997" b="22933"/>
          <a:stretch/>
        </p:blipFill>
        <p:spPr>
          <a:xfrm>
            <a:off x="6629400" y="228600"/>
            <a:ext cx="2286000" cy="96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1E5F-864A-43A6-B65F-BAA9C3DF5D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hank You and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14168" t="12077" r="16205" b="14476"/>
          <a:stretch/>
        </p:blipFill>
        <p:spPr>
          <a:xfrm>
            <a:off x="2637000" y="3276720"/>
            <a:ext cx="358128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E5A-6CD2-49D0-AD64-DD6E24A6D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35:29Z</dcterms:created>
  <dc:creator>Kapil</dc:creator>
  <dc:description/>
  <dc:language>en-US</dc:language>
  <cp:lastModifiedBy>Thompson</cp:lastModifiedBy>
  <dcterms:modified xsi:type="dcterms:W3CDTF">2008-10-09T16:48:40Z</dcterms:modified>
  <cp:revision>29</cp:revision>
  <dc:subject/>
  <dc:title>Slide 1</dc:title>
</cp:coreProperties>
</file>